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A7F4-9E7B-452D-8495-ACAAA48C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4175-6DCF-4488-99D6-A682F48C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0BC-151D-4FA4-82C7-F487DE0F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BBE7-A311-454E-AA1C-CC3FCAB1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C81C-D06F-45BF-8B93-C0C49316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D1F4-FCE4-487B-B044-1AEE9966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117-778F-4C57-BE1F-AC8DEEE9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07C2-FD68-494D-ADA4-C7030FE4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416-938A-4EBD-B1A1-C7B24A0B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4BD4-D41B-4658-98BB-A4E3E27C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CE7-F435-4708-9514-90950DBB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4472-3784-47DC-A2E8-2B40D982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2C9B-BF0B-4F39-BEB8-7F1784FD5521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oleObject" Target="../embeddings/oleObject1.bin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340000" y="2133720"/>
            <a:ext cx="5040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ormatarea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59280" y="393372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elulel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052640"/>
            <a:ext cx="3889440" cy="368280"/>
          </a:xfrm>
          <a:prstGeom prst="rect">
            <a:avLst/>
          </a:prstGeom>
          <a:solidFill>
            <a:srgbClr val="ccff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Num</a:t>
            </a: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ă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989000"/>
            <a:ext cx="3889440" cy="368280"/>
          </a:xfrm>
          <a:prstGeom prst="rect">
            <a:avLst/>
          </a:prstGeom>
          <a:solidFill>
            <a:srgbClr val="00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Alin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997360"/>
            <a:ext cx="396072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3789360"/>
            <a:ext cx="396072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Bordur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653000"/>
            <a:ext cx="396072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od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5516640"/>
            <a:ext cx="396072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otecţ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284720" y="1197000"/>
          <a:ext cx="4608360" cy="4680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84720" y="1197000"/>
                    <a:ext cx="46083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ă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052640"/>
            <a:ext cx="201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ic dreapta 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elu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1052640"/>
            <a:ext cx="201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orma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1341360"/>
            <a:ext cx="936720" cy="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24360" y="1700280"/>
          <a:ext cx="4895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1700280"/>
                    <a:ext cx="4895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84360" y="1773360"/>
            <a:ext cx="20160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oned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tab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r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ocent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racţ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tiinţ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rticulariz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1989000"/>
            <a:ext cx="2448000" cy="719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2349360"/>
            <a:ext cx="2521080" cy="503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2852640"/>
            <a:ext cx="2448000" cy="216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3284640"/>
            <a:ext cx="2808360" cy="73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187280" y="3500280"/>
            <a:ext cx="2953080" cy="144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763640" y="3644640"/>
            <a:ext cx="2303640" cy="43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476360" y="3860640"/>
            <a:ext cx="2590920" cy="648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547640" y="4005000"/>
            <a:ext cx="259272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187280" y="4149360"/>
            <a:ext cx="2953080" cy="1079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547640" y="4365720"/>
            <a:ext cx="2519640" cy="1295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050920" y="4508280"/>
            <a:ext cx="2016360" cy="158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0360" y="6021360"/>
            <a:ext cx="86508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ap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ini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00720" y="1197000"/>
          <a:ext cx="4032000" cy="439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1197000"/>
                    <a:ext cx="4032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4360" y="981000"/>
            <a:ext cx="2879640" cy="576360"/>
          </a:xfrm>
          <a:prstGeom prst="wedgeRoundRectCallout">
            <a:avLst>
              <a:gd name="adj1" fmla="val 89689"/>
              <a:gd name="adj2" fmla="val 163773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liniază conţinutul celulelor pe orizontal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1773360"/>
            <a:ext cx="2305080" cy="647640"/>
          </a:xfrm>
          <a:prstGeom prst="wedgeRoundRectCallout">
            <a:avLst>
              <a:gd name="adj1" fmla="val 133541"/>
              <a:gd name="adj2" fmla="val 131861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liniază conţinutul celulelor pe vertical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2637000"/>
            <a:ext cx="2160720" cy="576000"/>
          </a:xfrm>
          <a:prstGeom prst="wedgeRoundRectCallout">
            <a:avLst>
              <a:gd name="adj1" fmla="val 137435"/>
              <a:gd name="adj2" fmla="val 132092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Incadrează textul prin trecere pe un rând n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000" y="3429000"/>
            <a:ext cx="2232000" cy="431640"/>
          </a:xfrm>
          <a:prstGeom prst="wedgeRoundRectCallout">
            <a:avLst>
              <a:gd name="adj1" fmla="val 127171"/>
              <a:gd name="adj2" fmla="val 133453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eşte celul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4869000"/>
            <a:ext cx="2521080" cy="720720"/>
          </a:xfrm>
          <a:prstGeom prst="wedgeRoundRectCallout">
            <a:avLst>
              <a:gd name="adj1" fmla="val 187467"/>
              <a:gd name="adj2" fmla="val -188324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ermite rotirea textului cu un număr de 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00360" y="6021360"/>
            <a:ext cx="86508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ap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700360" y="1844640"/>
          <a:ext cx="3790800" cy="363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1844640"/>
                    <a:ext cx="379080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468360" y="1916280"/>
            <a:ext cx="1727280" cy="720720"/>
          </a:xfrm>
          <a:custGeom>
            <a:avLst/>
            <a:gdLst>
              <a:gd name="textAreaLeft" fmla="*/ 335880 w 1727280"/>
              <a:gd name="textAreaRight" fmla="*/ 1391400 w 1727280"/>
              <a:gd name="textAreaTop" fmla="*/ 140040 h 720720"/>
              <a:gd name="textAreaBottom" fmla="*/ 5806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148" y="14295"/>
                </a:lnTo>
                <a:lnTo>
                  <a:pt x="3163" y="18437"/>
                </a:lnTo>
                <a:lnTo>
                  <a:pt x="7154" y="19389"/>
                </a:lnTo>
                <a:lnTo>
                  <a:pt x="10800" y="21600"/>
                </a:lnTo>
                <a:lnTo>
                  <a:pt x="14295" y="19452"/>
                </a:lnTo>
                <a:lnTo>
                  <a:pt x="18437" y="18437"/>
                </a:lnTo>
                <a:lnTo>
                  <a:pt x="19389" y="14446"/>
                </a:lnTo>
                <a:lnTo>
                  <a:pt x="21600" y="10800"/>
                </a:lnTo>
                <a:lnTo>
                  <a:pt x="19452" y="7305"/>
                </a:lnTo>
                <a:lnTo>
                  <a:pt x="18437" y="3163"/>
                </a:lnTo>
                <a:lnTo>
                  <a:pt x="14446" y="2211"/>
                </a:lnTo>
                <a:lnTo>
                  <a:pt x="10800" y="0"/>
                </a:lnTo>
                <a:lnTo>
                  <a:pt x="7305" y="2148"/>
                </a:lnTo>
                <a:lnTo>
                  <a:pt x="3163" y="3163"/>
                </a:lnTo>
                <a:lnTo>
                  <a:pt x="2211" y="71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ipul fon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3213000"/>
            <a:ext cx="1727280" cy="720720"/>
          </a:xfrm>
          <a:custGeom>
            <a:avLst/>
            <a:gdLst>
              <a:gd name="textAreaLeft" fmla="*/ 335880 w 1727280"/>
              <a:gd name="textAreaRight" fmla="*/ 1391400 w 1727280"/>
              <a:gd name="textAreaTop" fmla="*/ 140040 h 720720"/>
              <a:gd name="textAreaBottom" fmla="*/ 5806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148" y="14295"/>
                </a:lnTo>
                <a:lnTo>
                  <a:pt x="3163" y="18437"/>
                </a:lnTo>
                <a:lnTo>
                  <a:pt x="7154" y="19389"/>
                </a:lnTo>
                <a:lnTo>
                  <a:pt x="10800" y="21600"/>
                </a:lnTo>
                <a:lnTo>
                  <a:pt x="14295" y="19452"/>
                </a:lnTo>
                <a:lnTo>
                  <a:pt x="18437" y="18437"/>
                </a:lnTo>
                <a:lnTo>
                  <a:pt x="19389" y="14446"/>
                </a:lnTo>
                <a:lnTo>
                  <a:pt x="21600" y="10800"/>
                </a:lnTo>
                <a:lnTo>
                  <a:pt x="19452" y="7305"/>
                </a:lnTo>
                <a:lnTo>
                  <a:pt x="18437" y="3163"/>
                </a:lnTo>
                <a:lnTo>
                  <a:pt x="14446" y="2211"/>
                </a:lnTo>
                <a:lnTo>
                  <a:pt x="10800" y="0"/>
                </a:lnTo>
                <a:lnTo>
                  <a:pt x="7305" y="2148"/>
                </a:lnTo>
                <a:lnTo>
                  <a:pt x="3163" y="3163"/>
                </a:lnTo>
                <a:lnTo>
                  <a:pt x="2211" y="71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Tipul liniei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subliniaz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4581360"/>
            <a:ext cx="1727280" cy="792360"/>
          </a:xfrm>
          <a:custGeom>
            <a:avLst/>
            <a:gdLst>
              <a:gd name="textAreaLeft" fmla="*/ 335880 w 1727280"/>
              <a:gd name="textAreaRight" fmla="*/ 1391400 w 1727280"/>
              <a:gd name="textAreaTop" fmla="*/ 154080 h 792360"/>
              <a:gd name="textAreaBottom" fmla="*/ 63828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148" y="14295"/>
                </a:lnTo>
                <a:lnTo>
                  <a:pt x="3163" y="18437"/>
                </a:lnTo>
                <a:lnTo>
                  <a:pt x="7154" y="19389"/>
                </a:lnTo>
                <a:lnTo>
                  <a:pt x="10800" y="21600"/>
                </a:lnTo>
                <a:lnTo>
                  <a:pt x="14295" y="19452"/>
                </a:lnTo>
                <a:lnTo>
                  <a:pt x="18437" y="18437"/>
                </a:lnTo>
                <a:lnTo>
                  <a:pt x="19389" y="14446"/>
                </a:lnTo>
                <a:lnTo>
                  <a:pt x="21600" y="10800"/>
                </a:lnTo>
                <a:lnTo>
                  <a:pt x="19452" y="7305"/>
                </a:lnTo>
                <a:lnTo>
                  <a:pt x="18437" y="3163"/>
                </a:lnTo>
                <a:lnTo>
                  <a:pt x="14446" y="2211"/>
                </a:lnTo>
                <a:lnTo>
                  <a:pt x="10800" y="0"/>
                </a:lnTo>
                <a:lnTo>
                  <a:pt x="7305" y="2148"/>
                </a:lnTo>
                <a:lnTo>
                  <a:pt x="3163" y="3163"/>
                </a:lnTo>
                <a:lnTo>
                  <a:pt x="2211" y="71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Efectele  care 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plică  textul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77080" y="1916280"/>
            <a:ext cx="1727280" cy="720720"/>
          </a:xfrm>
          <a:custGeom>
            <a:avLst/>
            <a:gdLst>
              <a:gd name="textAreaLeft" fmla="*/ 335880 w 1727280"/>
              <a:gd name="textAreaRight" fmla="*/ 1391400 w 1727280"/>
              <a:gd name="textAreaTop" fmla="*/ 140040 h 720720"/>
              <a:gd name="textAreaBottom" fmla="*/ 5806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148" y="14295"/>
                </a:lnTo>
                <a:lnTo>
                  <a:pt x="3163" y="18437"/>
                </a:lnTo>
                <a:lnTo>
                  <a:pt x="7154" y="19389"/>
                </a:lnTo>
                <a:lnTo>
                  <a:pt x="10800" y="21600"/>
                </a:lnTo>
                <a:lnTo>
                  <a:pt x="14295" y="19452"/>
                </a:lnTo>
                <a:lnTo>
                  <a:pt x="18437" y="18437"/>
                </a:lnTo>
                <a:lnTo>
                  <a:pt x="19389" y="14446"/>
                </a:lnTo>
                <a:lnTo>
                  <a:pt x="21600" y="10800"/>
                </a:lnTo>
                <a:lnTo>
                  <a:pt x="19452" y="7305"/>
                </a:lnTo>
                <a:lnTo>
                  <a:pt x="18437" y="3163"/>
                </a:lnTo>
                <a:lnTo>
                  <a:pt x="14446" y="2211"/>
                </a:lnTo>
                <a:lnTo>
                  <a:pt x="10800" y="0"/>
                </a:lnTo>
                <a:lnTo>
                  <a:pt x="7305" y="2148"/>
                </a:lnTo>
                <a:lnTo>
                  <a:pt x="3163" y="3163"/>
                </a:lnTo>
                <a:lnTo>
                  <a:pt x="2211" y="71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Stilul fontul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48360" y="3284640"/>
            <a:ext cx="1727280" cy="720720"/>
          </a:xfrm>
          <a:custGeom>
            <a:avLst/>
            <a:gdLst>
              <a:gd name="textAreaLeft" fmla="*/ 335880 w 1727280"/>
              <a:gd name="textAreaRight" fmla="*/ 1391400 w 1727280"/>
              <a:gd name="textAreaTop" fmla="*/ 140040 h 720720"/>
              <a:gd name="textAreaBottom" fmla="*/ 5806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148" y="14295"/>
                </a:lnTo>
                <a:lnTo>
                  <a:pt x="3163" y="18437"/>
                </a:lnTo>
                <a:lnTo>
                  <a:pt x="7154" y="19389"/>
                </a:lnTo>
                <a:lnTo>
                  <a:pt x="10800" y="21600"/>
                </a:lnTo>
                <a:lnTo>
                  <a:pt x="14295" y="19452"/>
                </a:lnTo>
                <a:lnTo>
                  <a:pt x="18437" y="18437"/>
                </a:lnTo>
                <a:lnTo>
                  <a:pt x="19389" y="14446"/>
                </a:lnTo>
                <a:lnTo>
                  <a:pt x="21600" y="10800"/>
                </a:lnTo>
                <a:lnTo>
                  <a:pt x="19452" y="7305"/>
                </a:lnTo>
                <a:lnTo>
                  <a:pt x="18437" y="3163"/>
                </a:lnTo>
                <a:lnTo>
                  <a:pt x="14446" y="2211"/>
                </a:lnTo>
                <a:lnTo>
                  <a:pt x="10800" y="0"/>
                </a:lnTo>
                <a:lnTo>
                  <a:pt x="7305" y="2148"/>
                </a:lnTo>
                <a:lnTo>
                  <a:pt x="3163" y="3163"/>
                </a:lnTo>
                <a:lnTo>
                  <a:pt x="2211" y="71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imensiune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textul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20000" y="4653000"/>
            <a:ext cx="1727280" cy="720720"/>
          </a:xfrm>
          <a:custGeom>
            <a:avLst/>
            <a:gdLst>
              <a:gd name="textAreaLeft" fmla="*/ 335880 w 1727280"/>
              <a:gd name="textAreaRight" fmla="*/ 1391400 w 1727280"/>
              <a:gd name="textAreaTop" fmla="*/ 140040 h 720720"/>
              <a:gd name="textAreaBottom" fmla="*/ 5806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148" y="14295"/>
                </a:lnTo>
                <a:lnTo>
                  <a:pt x="3163" y="18437"/>
                </a:lnTo>
                <a:lnTo>
                  <a:pt x="7154" y="19389"/>
                </a:lnTo>
                <a:lnTo>
                  <a:pt x="10800" y="21600"/>
                </a:lnTo>
                <a:lnTo>
                  <a:pt x="14295" y="19452"/>
                </a:lnTo>
                <a:lnTo>
                  <a:pt x="18437" y="18437"/>
                </a:lnTo>
                <a:lnTo>
                  <a:pt x="19389" y="14446"/>
                </a:lnTo>
                <a:lnTo>
                  <a:pt x="21600" y="10800"/>
                </a:lnTo>
                <a:lnTo>
                  <a:pt x="19452" y="7305"/>
                </a:lnTo>
                <a:lnTo>
                  <a:pt x="18437" y="3163"/>
                </a:lnTo>
                <a:lnTo>
                  <a:pt x="14446" y="2211"/>
                </a:lnTo>
                <a:lnTo>
                  <a:pt x="10800" y="0"/>
                </a:lnTo>
                <a:lnTo>
                  <a:pt x="7305" y="2148"/>
                </a:lnTo>
                <a:lnTo>
                  <a:pt x="3163" y="3163"/>
                </a:lnTo>
                <a:lnTo>
                  <a:pt x="2211" y="715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uloarea textul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95640" y="2276640"/>
            <a:ext cx="647640" cy="288720"/>
          </a:xfrm>
          <a:prstGeom prst="line">
            <a:avLst/>
          </a:prstGeom>
          <a:ln w="57240">
            <a:solidFill>
              <a:srgbClr val="3015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3573360"/>
            <a:ext cx="503280" cy="0"/>
          </a:xfrm>
          <a:prstGeom prst="line">
            <a:avLst/>
          </a:prstGeom>
          <a:ln w="57240">
            <a:solidFill>
              <a:srgbClr val="3015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340000" y="4005360"/>
            <a:ext cx="431640" cy="1008000"/>
          </a:xfrm>
          <a:prstGeom prst="line">
            <a:avLst/>
          </a:prstGeom>
          <a:ln w="57240">
            <a:solidFill>
              <a:srgbClr val="3015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003640" y="2276640"/>
            <a:ext cx="1873440" cy="215640"/>
          </a:xfrm>
          <a:prstGeom prst="line">
            <a:avLst/>
          </a:prstGeom>
          <a:ln w="57240">
            <a:solidFill>
              <a:srgbClr val="3015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5940000" y="2781000"/>
            <a:ext cx="1079640" cy="863640"/>
          </a:xfrm>
          <a:prstGeom prst="line">
            <a:avLst/>
          </a:prstGeom>
          <a:ln w="57240">
            <a:solidFill>
              <a:srgbClr val="3015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219280" y="3573360"/>
            <a:ext cx="1800360" cy="1440000"/>
          </a:xfrm>
          <a:prstGeom prst="line">
            <a:avLst/>
          </a:prstGeom>
          <a:ln w="57240">
            <a:solidFill>
              <a:srgbClr val="3015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6021360"/>
            <a:ext cx="86508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ap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rd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27280" y="1628640"/>
          <a:ext cx="3819600" cy="366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1628640"/>
                    <a:ext cx="3819600" cy="36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948360" y="1413000"/>
            <a:ext cx="1440000" cy="720720"/>
          </a:xfrm>
          <a:prstGeom prst="wedgeRectCallout">
            <a:avLst>
              <a:gd name="adj1" fmla="val -213615"/>
              <a:gd name="adj2" fmla="val 98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Bordura prestabilita, cu sau făr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133720"/>
            <a:ext cx="1440000" cy="720720"/>
          </a:xfrm>
          <a:prstGeom prst="wedgeRectCallout">
            <a:avLst>
              <a:gd name="adj1" fmla="val 291125"/>
              <a:gd name="adj2" fmla="val 301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legem stilul bordur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716280"/>
            <a:ext cx="1440000" cy="720720"/>
          </a:xfrm>
          <a:prstGeom prst="wedgeRectCallout">
            <a:avLst>
              <a:gd name="adj1" fmla="val 124421"/>
              <a:gd name="adj2" fmla="val -113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Bordură particularizată laturi diag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04000" y="4508640"/>
            <a:ext cx="1440000" cy="720720"/>
          </a:xfrm>
          <a:prstGeom prst="wedgeRectCallout">
            <a:avLst>
              <a:gd name="adj1" fmla="val -121666"/>
              <a:gd name="adj2" fmla="val -1019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lege culoarea pentru bordur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6021360"/>
            <a:ext cx="86508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ap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924360" y="1557360"/>
          <a:ext cx="3800520" cy="36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4360" y="1557360"/>
                    <a:ext cx="380052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403280" y="1844640"/>
            <a:ext cx="1728720" cy="576360"/>
          </a:xfrm>
          <a:prstGeom prst="wedgeRectCallout">
            <a:avLst>
              <a:gd name="adj1" fmla="val 128143"/>
              <a:gd name="adj2" fmla="val 1442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ermite alegerea culorii de fun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3716280"/>
            <a:ext cx="1728720" cy="576360"/>
          </a:xfrm>
          <a:prstGeom prst="wedgeRectCallout">
            <a:avLst>
              <a:gd name="adj1" fmla="val 117495"/>
              <a:gd name="adj2" fmla="val 411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ermite alegerea haşurii  de fun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6021360"/>
            <a:ext cx="86508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ap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cţ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43280" y="1773360"/>
          <a:ext cx="4032360" cy="383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1773360"/>
                    <a:ext cx="4032360" cy="38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116000" y="1989000"/>
            <a:ext cx="237636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rmite bloc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3860640"/>
            <a:ext cx="2376360" cy="9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rmite ascunde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360" y="2421000"/>
            <a:ext cx="1295640" cy="216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492360" y="2852640"/>
            <a:ext cx="1366920" cy="1440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6021360"/>
            <a:ext cx="865080" cy="3682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ap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a de format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8388360" cy="389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rot="16200000">
            <a:off x="2329560" y="1494360"/>
            <a:ext cx="372960" cy="4241880"/>
          </a:xfrm>
          <a:custGeom>
            <a:avLst/>
            <a:gdLst>
              <a:gd name="textAreaLeft" fmla="*/ 238320 w 372960"/>
              <a:gd name="textAreaRight" fmla="*/ 373320 w 372960"/>
              <a:gd name="textAreaTop" fmla="*/ 110520 h 4241880"/>
              <a:gd name="textAreaBottom" fmla="*/ 4131360 h 424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42920" y="3789360"/>
            <a:ext cx="280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oane de formatar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5435640" y="2709360"/>
            <a:ext cx="360360" cy="1366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364500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oane pentru formatarea caracteristicilor nume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6551280" y="2313000"/>
            <a:ext cx="360360" cy="718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4720" y="14130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oane pentru iden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7667640" y="2781000"/>
            <a:ext cx="360360" cy="1366920"/>
          </a:xfrm>
          <a:custGeom>
            <a:avLst/>
            <a:gdLst>
              <a:gd name="textAreaLeft" fmla="*/ 230400 w 360360"/>
              <a:gd name="textAreaRight" fmla="*/ 360720 w 36036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64360" y="3860640"/>
            <a:ext cx="158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oane pentru formatarea bordurilor si a culor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4T13:43:24Z</dcterms:created>
  <dc:creator>simona</dc:creator>
  <dc:description/>
  <dc:language>en-US</dc:language>
  <cp:lastModifiedBy>statia7</cp:lastModifiedBy>
  <dcterms:modified xsi:type="dcterms:W3CDTF">2010-01-19T07:04:06Z</dcterms:modified>
  <cp:revision>7</cp:revision>
  <dc:subject/>
  <dc:title>Slide 1</dc:title>
</cp:coreProperties>
</file>